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E116-5D9A-4B85-A22A-1265B919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F7E9-3DF2-471C-BE9E-D476D35BA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ndianapublicmedia.org/amomentofscience/the-truth-about-phototropis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0166-D8FA-40E5-9407-CF0DD48DA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2754-9E50-4825-98BD-24B2B99A2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3/jan/botany#.Ua6dzBzsSj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 plant on right genetically engineered to produce more cytokin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2CF8-2B52-4DF0-A07D-3BD7FF730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7ADE-717B-41A1-A967-B39F84BAA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ohio-state.edu/~plantbio/osu_pcmb/pcmb_lab_resources/pcmb101_activities/hormones/plnt_grth_hrmns_fruit_ri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E401-6DE2-42B4-95D9-A1B5592B9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vironmentplants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4839-675F-4B1F-905F-D06FDC54C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36/ch36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B833-8ADF-48F1-8842-DD90D519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paretobeamazed.blogspot.ca/2011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AC7A-C4C2-41BC-9F70-71902D435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en.wikipedia.org/wiki/Thigmotro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6500-4F6D-4DF6-8BF7-00808E6BF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5FAD-F2EB-458D-B8B1-038994DA8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mblr.com/tagged/auxins?language=fr_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CC10-B8EA-4A18-AF0F-7AC52BE8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7BF2-CA1C-4061-B4B2-507702B93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5e.plantphys.net/article.php?ch=0&amp;id=3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FE2-82F8-4E15-9B92-DA96DF16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A22-8880-4CF0-AF54-6E80EB58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416-3062-4459-9B37-8A3D0BCC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1A4-366F-40B1-AA88-5956E71C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CA9-71CB-4328-A3F1-27873C9C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D3A-3BD6-4E40-A8D1-15892D6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492-090D-40A7-A62B-DDA66399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ACD-FC7D-48E4-B458-2CDC39ED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B0F-820A-4094-B772-AA2C36F5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96F-C4AB-4FBF-AD11-5AEC1D74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2DC-5440-4A6E-8E4D-FD3601E4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74A-8B31-4D2D-8FCA-CE69FB77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B05D-C221-433C-BB57-021B3717B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l of Plant Growth &amp;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growing tissues such as meristems, young leaves, growing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cel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yed on mushrooms &amp; lettuce to prevent spo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bot_tobacco"/>
          <p:cNvPicPr/>
          <p:nvPr/>
        </p:nvPicPr>
        <p:blipFill>
          <a:blip r:embed="rId1"/>
          <a:stretch/>
        </p:blipFill>
        <p:spPr>
          <a:xfrm>
            <a:off x="3127320" y="609480"/>
            <a:ext cx="288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hat is produced at various stages of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tress hormo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imulates fruit ripening, and many other developmental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ene levels controlled so that fruit is ripe when sold at th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fruit_ripe"/>
          <p:cNvPicPr/>
          <p:nvPr/>
        </p:nvPicPr>
        <p:blipFill>
          <a:blip r:embed="rId1"/>
          <a:stretch/>
        </p:blipFill>
        <p:spPr>
          <a:xfrm>
            <a:off x="685800" y="844560"/>
            <a:ext cx="7772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cisic Acid (AB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dormancy in seeds and leaf b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rise in response to temperature &amp; light changes (e.g., seasonal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used on plants that are being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he growth of a plant in response to a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2081938105_3cb639bea5"/>
          <p:cNvPicPr/>
          <p:nvPr/>
        </p:nvPicPr>
        <p:blipFill>
          <a:blip r:embed="rId1"/>
          <a:stretch/>
        </p:blipFill>
        <p:spPr>
          <a:xfrm>
            <a:off x="1893960" y="3124080"/>
            <a:ext cx="528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h36c2"/>
          <p:cNvPicPr/>
          <p:nvPr/>
        </p:nvPicPr>
        <p:blipFill>
          <a:blip r:embed="rId1"/>
          <a:stretch/>
        </p:blipFill>
        <p:spPr>
          <a:xfrm>
            <a:off x="2087640" y="1981080"/>
            <a:ext cx="49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0038195-Gravitropism_(Geotropism)-SPL"/>
          <p:cNvPicPr/>
          <p:nvPr/>
        </p:nvPicPr>
        <p:blipFill>
          <a:blip r:embed="rId1"/>
          <a:stretch/>
        </p:blipFill>
        <p:spPr>
          <a:xfrm>
            <a:off x="1606680" y="1981080"/>
            <a:ext cx="59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20px-Brunnichia_ovata_"/>
          <p:cNvPicPr/>
          <p:nvPr/>
        </p:nvPicPr>
        <p:blipFill>
          <a:blip r:embed="rId1"/>
          <a:stretch/>
        </p:blipFill>
        <p:spPr>
          <a:xfrm>
            <a:off x="2449440" y="1981080"/>
            <a:ext cx="424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ell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sid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ing phototrop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primarily in shoot apical meristem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umblr_m3lh4aTFK61rvu0g4o1_250"/>
          <p:cNvPicPr/>
          <p:nvPr/>
        </p:nvPicPr>
        <p:blipFill>
          <a:blip r:embed="rId1"/>
          <a:stretch/>
        </p:blipFill>
        <p:spPr>
          <a:xfrm>
            <a:off x="4168800" y="2133720"/>
            <a:ext cx="45943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ere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cell division &amp;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role in flowering &amp; frui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erellin spray induces fruit production &amp; elongates fruit stems in 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wt2002b_s"/>
          <p:cNvPicPr/>
          <p:nvPr/>
        </p:nvPicPr>
        <p:blipFill>
          <a:blip r:embed="rId1"/>
          <a:stretch/>
        </p:blipFill>
        <p:spPr>
          <a:xfrm>
            <a:off x="685800" y="749160"/>
            <a:ext cx="7772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rubina khan</cp:lastModifiedBy>
  <dcterms:modified xsi:type="dcterms:W3CDTF">2016-11-30T13:32:24Z</dcterms:modified>
  <cp:revision>42</cp:revision>
  <dc:subject/>
  <dc:title>Plant Growth</dc:title>
</cp:coreProperties>
</file>